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A40C-895E-4F6E-A0E2-84EFD05F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D9BB-0492-4831-AC71-A8A54E5CC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8331-1D4F-4AF2-9E34-B32A7FF78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9000-4DDC-427B-9F38-2FB6E8F53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EEFF-0C2F-4AB1-B6C6-51FD98FD9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0AF60-2631-4511-BD3D-C683BFB4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32500-0BDF-433F-83B8-52AF9EF5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B2FC6-A51C-472F-A51C-A9BFAD833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29217-D73A-4816-9AFB-975710F3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496B9-340A-4C5F-AECA-FD1D6D1EB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73BC-E8A7-44A5-8A24-718BD9D1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54E3-2D84-4499-B073-72F64CBB7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8C7E-2713-459F-9EDB-2837D770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68AE-F29C-4E8F-A61C-69D267E4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5A6B1-7438-4A9F-88A8-9038BD52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3AFEC-1AC1-492B-8EE7-D95D3A540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1C1B-35A9-4498-A19E-E7F6EF4F4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BCCF-8B55-448E-B5FB-734A0131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38A2-0766-42B3-BBAC-BF49F508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D823-5D04-4581-AE0C-71FA86B41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0955-E406-4DD4-8827-28423F7D0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A604-D5CE-493C-AA8E-9A4F832E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1669E-303F-4526-BF04-E4DC5794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CBB9-E4FC-4853-8A39-CA704040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1.xml"/><Relationship Id="rId30" Type="http://schemas.openxmlformats.org/officeDocument/2006/relationships/slideLayout" Target="../slideLayouts/slideLayout2.xml"/><Relationship Id="rId31" Type="http://schemas.openxmlformats.org/officeDocument/2006/relationships/slideLayout" Target="../slideLayouts/slideLayout3.xml"/><Relationship Id="rId32" Type="http://schemas.openxmlformats.org/officeDocument/2006/relationships/slideLayout" Target="../slideLayouts/slideLayout4.xml"/><Relationship Id="rId33" Type="http://schemas.openxmlformats.org/officeDocument/2006/relationships/slideLayout" Target="../slideLayouts/slideLayout5.xml"/><Relationship Id="rId34" Type="http://schemas.openxmlformats.org/officeDocument/2006/relationships/slideLayout" Target="../slideLayouts/slideLayout6.xml"/><Relationship Id="rId35" Type="http://schemas.openxmlformats.org/officeDocument/2006/relationships/slideLayout" Target="../slideLayouts/slideLayout7.xml"/><Relationship Id="rId36" Type="http://schemas.openxmlformats.org/officeDocument/2006/relationships/slideLayout" Target="../slideLayouts/slideLayout8.xml"/><Relationship Id="rId37" Type="http://schemas.openxmlformats.org/officeDocument/2006/relationships/slideLayout" Target="../slideLayouts/slideLayout9.xml"/><Relationship Id="rId38" Type="http://schemas.openxmlformats.org/officeDocument/2006/relationships/slideLayout" Target="../slideLayouts/slideLayout10.xml"/><Relationship Id="rId39" Type="http://schemas.openxmlformats.org/officeDocument/2006/relationships/slideLayout" Target="../slideLayouts/slideLayout11.xml"/><Relationship Id="rId4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4.png"/><Relationship Id="rId37" Type="http://schemas.openxmlformats.org/officeDocument/2006/relationships/slideLayout" Target="../slideLayouts/slideLayout13.xml"/><Relationship Id="rId38" Type="http://schemas.openxmlformats.org/officeDocument/2006/relationships/slideLayout" Target="../slideLayouts/slideLayout14.xml"/><Relationship Id="rId39" Type="http://schemas.openxmlformats.org/officeDocument/2006/relationships/slideLayout" Target="../slideLayouts/slideLayout15.xml"/><Relationship Id="rId40" Type="http://schemas.openxmlformats.org/officeDocument/2006/relationships/slideLayout" Target="../slideLayouts/slideLayout16.xml"/><Relationship Id="rId41" Type="http://schemas.openxmlformats.org/officeDocument/2006/relationships/slideLayout" Target="../slideLayouts/slideLayout17.xml"/><Relationship Id="rId42" Type="http://schemas.openxmlformats.org/officeDocument/2006/relationships/slideLayout" Target="../slideLayouts/slideLayout18.xml"/><Relationship Id="rId43" Type="http://schemas.openxmlformats.org/officeDocument/2006/relationships/slideLayout" Target="../slideLayouts/slideLayout19.xml"/><Relationship Id="rId44" Type="http://schemas.openxmlformats.org/officeDocument/2006/relationships/slideLayout" Target="../slideLayouts/slideLayout20.xml"/><Relationship Id="rId45" Type="http://schemas.openxmlformats.org/officeDocument/2006/relationships/slideLayout" Target="../slideLayouts/slideLayout21.xml"/><Relationship Id="rId46" Type="http://schemas.openxmlformats.org/officeDocument/2006/relationships/slideLayout" Target="../slideLayouts/slideLayout22.xml"/><Relationship Id="rId47" Type="http://schemas.openxmlformats.org/officeDocument/2006/relationships/slideLayout" Target="../slideLayouts/slideLayout23.xml"/><Relationship Id="rId4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2519"/>
            </a:gs>
            <a:gs pos="100000">
              <a:srgbClr val="860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900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9D97-08F7-45AA-8602-AF0795D13772}" type="slidenum">
              <a:rPr b="0" lang="en-US" sz="1800" spc="-1" strike="noStrike">
                <a:solidFill>
                  <a:srgbClr val="ff9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6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7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8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0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11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440" y="437040"/>
                  <a:ext cx="114912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" name="Freeform 36"/>
              <p:cNvGrpSpPr/>
              <p:nvPr/>
            </p:nvGrpSpPr>
            <p:grpSpPr>
              <a:xfrm>
                <a:off x="7576920" y="601200"/>
                <a:ext cx="1301040" cy="1269720"/>
                <a:chOff x="7576920" y="601200"/>
                <a:chExt cx="1301040" cy="1269720"/>
              </a:xfrm>
            </p:grpSpPr>
            <p:pic>
              <p:nvPicPr>
                <p:cNvPr id="14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" name=""/>
                <p:cNvSpPr/>
                <p:nvPr/>
              </p:nvSpPr>
              <p:spPr>
                <a:xfrm rot="11849400">
                  <a:off x="770292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17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20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2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23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4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25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26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27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8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9" name="Freeform 20"/>
              <p:cNvGrpSpPr/>
              <p:nvPr/>
            </p:nvGrpSpPr>
            <p:grpSpPr>
              <a:xfrm>
                <a:off x="6614640" y="5115240"/>
                <a:ext cx="1188720" cy="1320840"/>
                <a:chOff x="6614640" y="5115240"/>
                <a:chExt cx="1188720" cy="1320840"/>
              </a:xfrm>
            </p:grpSpPr>
            <p:pic>
              <p:nvPicPr>
                <p:cNvPr id="30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1" name=""/>
                <p:cNvSpPr/>
                <p:nvPr/>
              </p:nvSpPr>
              <p:spPr>
                <a:xfrm rot="12860400">
                  <a:off x="6883560" y="5198040"/>
                  <a:ext cx="65088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2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33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5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36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38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39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0" name=""/>
                <p:cNvSpPr/>
                <p:nvPr/>
              </p:nvSpPr>
              <p:spPr>
                <a:xfrm rot="16200000">
                  <a:off x="716832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1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42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3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4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45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6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47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48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9" name=""/>
                <p:cNvSpPr/>
                <p:nvPr/>
              </p:nvSpPr>
              <p:spPr>
                <a:xfrm>
                  <a:off x="6444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0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51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" name=""/>
                <p:cNvSpPr/>
                <p:nvPr/>
              </p:nvSpPr>
              <p:spPr>
                <a:xfrm>
                  <a:off x="5400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53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54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5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56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57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58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9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0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61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2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3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64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6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67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8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69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70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508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2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73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4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5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76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" name=""/>
                <p:cNvSpPr/>
                <p:nvPr/>
              </p:nvSpPr>
              <p:spPr>
                <a:xfrm>
                  <a:off x="2628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78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79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" name=""/>
                <p:cNvSpPr/>
                <p:nvPr/>
              </p:nvSpPr>
              <p:spPr>
                <a:xfrm>
                  <a:off x="2592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1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82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" name=""/>
                <p:cNvSpPr/>
                <p:nvPr/>
              </p:nvSpPr>
              <p:spPr>
                <a:xfrm>
                  <a:off x="4320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4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85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6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87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88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9"/>
    <p:sldLayoutId id="2147483650" r:id="rId30"/>
    <p:sldLayoutId id="2147483651" r:id="rId31"/>
    <p:sldLayoutId id="2147483652" r:id="rId32"/>
    <p:sldLayoutId id="2147483653" r:id="rId33"/>
    <p:sldLayoutId id="2147483654" r:id="rId34"/>
    <p:sldLayoutId id="2147483655" r:id="rId35"/>
    <p:sldLayoutId id="2147483656" r:id="rId36"/>
    <p:sldLayoutId id="2147483657" r:id="rId37"/>
    <p:sldLayoutId id="2147483658" r:id="rId38"/>
    <p:sldLayoutId id="2147483659" r:id="rId39"/>
    <p:sldLayoutId id="2147483660" r:id="rId4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2519"/>
            </a:gs>
            <a:gs pos="100000">
              <a:srgbClr val="860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60"/>
          <p:cNvGrpSpPr/>
          <p:nvPr/>
        </p:nvGrpSpPr>
        <p:grpSpPr>
          <a:xfrm>
            <a:off x="-163080" y="0"/>
            <a:ext cx="9540720" cy="6858000"/>
            <a:chOff x="-163080" y="0"/>
            <a:chExt cx="9540720" cy="6858000"/>
          </a:xfrm>
        </p:grpSpPr>
        <p:grpSp>
          <p:nvGrpSpPr>
            <p:cNvPr id="127" name="Group 182"/>
            <p:cNvGrpSpPr/>
            <p:nvPr/>
          </p:nvGrpSpPr>
          <p:grpSpPr>
            <a:xfrm>
              <a:off x="-163080" y="299880"/>
              <a:ext cx="9234000" cy="6447600"/>
              <a:chOff x="-163080" y="299880"/>
              <a:chExt cx="9234000" cy="6447600"/>
            </a:xfrm>
          </p:grpSpPr>
          <p:grpSp>
            <p:nvGrpSpPr>
              <p:cNvPr id="128" name="Freeform 12"/>
              <p:cNvGrpSpPr/>
              <p:nvPr/>
            </p:nvGrpSpPr>
            <p:grpSpPr>
              <a:xfrm>
                <a:off x="-163080" y="3517920"/>
                <a:ext cx="1468440" cy="1466640"/>
                <a:chOff x="-163080" y="3517920"/>
                <a:chExt cx="1468440" cy="1466640"/>
              </a:xfrm>
            </p:grpSpPr>
            <p:pic>
              <p:nvPicPr>
                <p:cNvPr id="129" name="Freeform 12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-33480" y="3667680"/>
                  <a:ext cx="1237680" cy="1193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0" name=""/>
                <p:cNvSpPr/>
                <p:nvPr/>
              </p:nvSpPr>
              <p:spPr>
                <a:xfrm rot="8050800">
                  <a:off x="74520" y="3709440"/>
                  <a:ext cx="992880" cy="10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1" name="Freeform 28"/>
              <p:cNvGrpSpPr/>
              <p:nvPr/>
            </p:nvGrpSpPr>
            <p:grpSpPr>
              <a:xfrm>
                <a:off x="315360" y="299880"/>
                <a:ext cx="1447200" cy="1352520"/>
                <a:chOff x="315360" y="299880"/>
                <a:chExt cx="1447200" cy="1352520"/>
              </a:xfrm>
            </p:grpSpPr>
            <p:pic>
              <p:nvPicPr>
                <p:cNvPr id="132" name="Freeform 28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78440" y="437040"/>
                  <a:ext cx="1149120" cy="103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3" name=""/>
                <p:cNvSpPr/>
                <p:nvPr/>
              </p:nvSpPr>
              <p:spPr>
                <a:xfrm rot="7569000">
                  <a:off x="646920" y="366120"/>
                  <a:ext cx="783720" cy="12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4" name="Freeform 36"/>
              <p:cNvGrpSpPr/>
              <p:nvPr/>
            </p:nvGrpSpPr>
            <p:grpSpPr>
              <a:xfrm>
                <a:off x="7576920" y="601200"/>
                <a:ext cx="1301040" cy="1269720"/>
                <a:chOff x="7576920" y="601200"/>
                <a:chExt cx="1301040" cy="1269720"/>
              </a:xfrm>
            </p:grpSpPr>
            <p:pic>
              <p:nvPicPr>
                <p:cNvPr id="135" name="Freeform 36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598880" y="677880"/>
                  <a:ext cx="1207800" cy="1136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6" name=""/>
                <p:cNvSpPr/>
                <p:nvPr/>
              </p:nvSpPr>
              <p:spPr>
                <a:xfrm rot="11849400">
                  <a:off x="7702920" y="735480"/>
                  <a:ext cx="1049040" cy="100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37" name="Freeform 32"/>
              <p:cNvGrpSpPr/>
              <p:nvPr/>
            </p:nvGrpSpPr>
            <p:grpSpPr>
              <a:xfrm>
                <a:off x="6811560" y="1857240"/>
                <a:ext cx="1442160" cy="836280"/>
                <a:chOff x="6811560" y="1857240"/>
                <a:chExt cx="1442160" cy="836280"/>
              </a:xfrm>
            </p:grpSpPr>
            <p:pic>
              <p:nvPicPr>
                <p:cNvPr id="138" name="Freeform 32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811560" y="1883160"/>
                  <a:ext cx="1442160" cy="75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9" name=""/>
                <p:cNvSpPr/>
                <p:nvPr/>
              </p:nvSpPr>
              <p:spPr>
                <a:xfrm rot="6220200">
                  <a:off x="7263360" y="1609920"/>
                  <a:ext cx="537120" cy="133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40" name="Freeform 16"/>
              <p:cNvGrpSpPr/>
              <p:nvPr/>
            </p:nvGrpSpPr>
            <p:grpSpPr>
              <a:xfrm>
                <a:off x="7590960" y="4825080"/>
                <a:ext cx="1479960" cy="1178280"/>
                <a:chOff x="7590960" y="4825080"/>
                <a:chExt cx="1479960" cy="1178280"/>
              </a:xfrm>
            </p:grpSpPr>
            <p:pic>
              <p:nvPicPr>
                <p:cNvPr id="141" name="Freeform 16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7641000" y="4941720"/>
                  <a:ext cx="1400040" cy="986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 rot="6532800">
                  <a:off x="7928640" y="4769640"/>
                  <a:ext cx="804600" cy="1288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43" name="Freeform 20"/>
              <p:cNvGrpSpPr/>
              <p:nvPr/>
            </p:nvGrpSpPr>
            <p:grpSpPr>
              <a:xfrm>
                <a:off x="6987240" y="5295240"/>
                <a:ext cx="1589400" cy="1452240"/>
                <a:chOff x="6987240" y="5295240"/>
                <a:chExt cx="1589400" cy="1452240"/>
              </a:xfrm>
            </p:grpSpPr>
            <p:pic>
              <p:nvPicPr>
                <p:cNvPr id="144" name="Freeform 20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112520" y="5463720"/>
                  <a:ext cx="1349640" cy="1147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5" name=""/>
                <p:cNvSpPr/>
                <p:nvPr/>
              </p:nvSpPr>
              <p:spPr>
                <a:xfrm rot="7603800">
                  <a:off x="7407000" y="5308920"/>
                  <a:ext cx="749160" cy="1424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46" name="Group 189"/>
            <p:cNvGrpSpPr/>
            <p:nvPr/>
          </p:nvGrpSpPr>
          <p:grpSpPr>
            <a:xfrm>
              <a:off x="0" y="92520"/>
              <a:ext cx="9144000" cy="6765480"/>
              <a:chOff x="0" y="92520"/>
              <a:chExt cx="9144000" cy="6765480"/>
            </a:xfrm>
          </p:grpSpPr>
          <p:grpSp>
            <p:nvGrpSpPr>
              <p:cNvPr id="147" name="Freeform 12"/>
              <p:cNvGrpSpPr/>
              <p:nvPr/>
            </p:nvGrpSpPr>
            <p:grpSpPr>
              <a:xfrm>
                <a:off x="7513920" y="3521880"/>
                <a:ext cx="1266480" cy="1286640"/>
                <a:chOff x="7513920" y="3521880"/>
                <a:chExt cx="1266480" cy="1286640"/>
              </a:xfrm>
            </p:grpSpPr>
            <p:pic>
              <p:nvPicPr>
                <p:cNvPr id="148" name="Freeform 12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7614000" y="3678840"/>
                  <a:ext cx="1078200" cy="996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9" name=""/>
                <p:cNvSpPr/>
                <p:nvPr/>
              </p:nvSpPr>
              <p:spPr>
                <a:xfrm rot="19953600">
                  <a:off x="7685280" y="3679920"/>
                  <a:ext cx="923400" cy="97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0" name="Freeform 20"/>
              <p:cNvGrpSpPr/>
              <p:nvPr/>
            </p:nvGrpSpPr>
            <p:grpSpPr>
              <a:xfrm>
                <a:off x="6614640" y="5115240"/>
                <a:ext cx="1188720" cy="1320840"/>
                <a:chOff x="6614640" y="5115240"/>
                <a:chExt cx="1188720" cy="1320840"/>
              </a:xfrm>
            </p:grpSpPr>
            <p:pic>
              <p:nvPicPr>
                <p:cNvPr id="151" name="Freeform 20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6728400" y="5249160"/>
                  <a:ext cx="909360" cy="106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2" name=""/>
                <p:cNvSpPr/>
                <p:nvPr/>
              </p:nvSpPr>
              <p:spPr>
                <a:xfrm rot="12860400">
                  <a:off x="6883560" y="5198040"/>
                  <a:ext cx="650880" cy="1154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3" name="Freeform 12"/>
              <p:cNvGrpSpPr/>
              <p:nvPr/>
            </p:nvGrpSpPr>
            <p:grpSpPr>
              <a:xfrm>
                <a:off x="7072560" y="2264400"/>
                <a:ext cx="1121400" cy="1126800"/>
                <a:chOff x="7072560" y="2264400"/>
                <a:chExt cx="1121400" cy="1126800"/>
              </a:xfrm>
            </p:grpSpPr>
            <p:pic>
              <p:nvPicPr>
                <p:cNvPr id="154" name="Freeform 12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7156440" y="2401920"/>
                  <a:ext cx="951480" cy="814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5" name=""/>
                <p:cNvSpPr/>
                <p:nvPr/>
              </p:nvSpPr>
              <p:spPr>
                <a:xfrm rot="1885800">
                  <a:off x="7228080" y="2414880"/>
                  <a:ext cx="809640" cy="825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6" name="Freeform 16"/>
              <p:cNvGrpSpPr/>
              <p:nvPr/>
            </p:nvGrpSpPr>
            <p:grpSpPr>
              <a:xfrm>
                <a:off x="7886880" y="92520"/>
                <a:ext cx="1069920" cy="1140840"/>
                <a:chOff x="7886880" y="92520"/>
                <a:chExt cx="1069920" cy="1140840"/>
              </a:xfrm>
            </p:grpSpPr>
            <p:pic>
              <p:nvPicPr>
                <p:cNvPr id="157" name="Freeform 16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053920" y="223920"/>
                  <a:ext cx="734760" cy="913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8" name=""/>
                <p:cNvSpPr/>
                <p:nvPr/>
              </p:nvSpPr>
              <p:spPr>
                <a:xfrm rot="19458000">
                  <a:off x="8103240" y="189000"/>
                  <a:ext cx="63684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59" name="Freeform 32"/>
              <p:cNvGrpSpPr/>
              <p:nvPr/>
            </p:nvGrpSpPr>
            <p:grpSpPr>
              <a:xfrm>
                <a:off x="6873120" y="1022040"/>
                <a:ext cx="945720" cy="468000"/>
                <a:chOff x="6873120" y="1022040"/>
                <a:chExt cx="945720" cy="468000"/>
              </a:xfrm>
            </p:grpSpPr>
            <p:pic>
              <p:nvPicPr>
                <p:cNvPr id="160" name="Freeform 32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6873120" y="1022040"/>
                  <a:ext cx="945720" cy="468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1" name=""/>
                <p:cNvSpPr/>
                <p:nvPr/>
              </p:nvSpPr>
              <p:spPr>
                <a:xfrm rot="16200000">
                  <a:off x="7168320" y="834840"/>
                  <a:ext cx="358200" cy="83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2" name="Freeform 28"/>
              <p:cNvGrpSpPr/>
              <p:nvPr/>
            </p:nvGrpSpPr>
            <p:grpSpPr>
              <a:xfrm>
                <a:off x="593280" y="95760"/>
                <a:ext cx="1212120" cy="1293480"/>
                <a:chOff x="593280" y="95760"/>
                <a:chExt cx="1212120" cy="1293480"/>
              </a:xfrm>
            </p:grpSpPr>
            <p:pic>
              <p:nvPicPr>
                <p:cNvPr id="163" name="Freeform 28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740880" y="257400"/>
                  <a:ext cx="891360" cy="943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4" name=""/>
                <p:cNvSpPr/>
                <p:nvPr/>
              </p:nvSpPr>
              <p:spPr>
                <a:xfrm rot="2065200">
                  <a:off x="826920" y="213480"/>
                  <a:ext cx="744480" cy="105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5" name="Freeform 39"/>
              <p:cNvGrpSpPr/>
              <p:nvPr/>
            </p:nvGrpSpPr>
            <p:grpSpPr>
              <a:xfrm>
                <a:off x="8722440" y="1173960"/>
                <a:ext cx="421560" cy="887400"/>
                <a:chOff x="8722440" y="1173960"/>
                <a:chExt cx="421560" cy="887400"/>
              </a:xfrm>
            </p:grpSpPr>
            <p:pic>
              <p:nvPicPr>
                <p:cNvPr id="166" name="Freeform 39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722440" y="1173960"/>
                  <a:ext cx="421560" cy="887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67" name=""/>
                <p:cNvSpPr/>
                <p:nvPr/>
              </p:nvSpPr>
              <p:spPr>
                <a:xfrm>
                  <a:off x="8778240" y="1230840"/>
                  <a:ext cx="311400" cy="77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68" name="Freeform 88"/>
              <p:cNvGrpSpPr/>
              <p:nvPr/>
            </p:nvGrpSpPr>
            <p:grpSpPr>
              <a:xfrm>
                <a:off x="11880" y="5010120"/>
                <a:ext cx="789120" cy="1015200"/>
                <a:chOff x="11880" y="5010120"/>
                <a:chExt cx="789120" cy="1015200"/>
              </a:xfrm>
            </p:grpSpPr>
            <p:pic>
              <p:nvPicPr>
                <p:cNvPr id="169" name="Freeform 88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11880" y="5010120"/>
                  <a:ext cx="789120" cy="1015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64440" y="5067360"/>
                  <a:ext cx="684720" cy="900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71" name="Freeform 47"/>
              <p:cNvGrpSpPr/>
              <p:nvPr/>
            </p:nvGrpSpPr>
            <p:grpSpPr>
              <a:xfrm>
                <a:off x="0" y="2341080"/>
                <a:ext cx="554040" cy="960480"/>
                <a:chOff x="0" y="2341080"/>
                <a:chExt cx="554040" cy="960480"/>
              </a:xfrm>
            </p:grpSpPr>
            <p:pic>
              <p:nvPicPr>
                <p:cNvPr id="172" name="Freeform 47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0" y="2341080"/>
                  <a:ext cx="554040" cy="9604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3" name=""/>
                <p:cNvSpPr/>
                <p:nvPr/>
              </p:nvSpPr>
              <p:spPr>
                <a:xfrm>
                  <a:off x="54000" y="2395800"/>
                  <a:ext cx="448200" cy="85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74" name="Freeform 23"/>
              <p:cNvGrpSpPr/>
              <p:nvPr/>
            </p:nvGrpSpPr>
            <p:grpSpPr>
              <a:xfrm>
                <a:off x="8451360" y="6073920"/>
                <a:ext cx="692640" cy="784080"/>
                <a:chOff x="8451360" y="6073920"/>
                <a:chExt cx="692640" cy="784080"/>
              </a:xfrm>
            </p:grpSpPr>
            <p:pic>
              <p:nvPicPr>
                <p:cNvPr id="175" name="Freeform 2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451360" y="6073920"/>
                  <a:ext cx="692640" cy="784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6" name=""/>
                <p:cNvSpPr/>
                <p:nvPr/>
              </p:nvSpPr>
              <p:spPr>
                <a:xfrm>
                  <a:off x="8503920" y="6127920"/>
                  <a:ext cx="58572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7" name="Group 200"/>
            <p:cNvGrpSpPr/>
            <p:nvPr/>
          </p:nvGrpSpPr>
          <p:grpSpPr>
            <a:xfrm>
              <a:off x="-16920" y="0"/>
              <a:ext cx="9394560" cy="6858000"/>
              <a:chOff x="-16920" y="0"/>
              <a:chExt cx="9394560" cy="6858000"/>
            </a:xfrm>
          </p:grpSpPr>
          <p:grpSp>
            <p:nvGrpSpPr>
              <p:cNvPr id="178" name="Freeform 16"/>
              <p:cNvGrpSpPr/>
              <p:nvPr/>
            </p:nvGrpSpPr>
            <p:grpSpPr>
              <a:xfrm>
                <a:off x="7391520" y="1329120"/>
                <a:ext cx="1986120" cy="2216160"/>
                <a:chOff x="7391520" y="1329120"/>
                <a:chExt cx="1986120" cy="2216160"/>
              </a:xfrm>
            </p:grpSpPr>
            <p:pic>
              <p:nvPicPr>
                <p:cNvPr id="179" name="Freeform 16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745400" y="1540800"/>
                  <a:ext cx="1314720" cy="1733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0" name=""/>
                <p:cNvSpPr/>
                <p:nvPr/>
              </p:nvSpPr>
              <p:spPr>
                <a:xfrm rot="9111600">
                  <a:off x="7748640" y="1520640"/>
                  <a:ext cx="1271880" cy="183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81" name="Freeform 24"/>
              <p:cNvGrpSpPr/>
              <p:nvPr/>
            </p:nvGrpSpPr>
            <p:grpSpPr>
              <a:xfrm>
                <a:off x="7816680" y="5453640"/>
                <a:ext cx="1215000" cy="791280"/>
                <a:chOff x="7816680" y="5453640"/>
                <a:chExt cx="1215000" cy="791280"/>
              </a:xfrm>
            </p:grpSpPr>
            <p:pic>
              <p:nvPicPr>
                <p:cNvPr id="182" name="Freeform 24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823520" y="5547960"/>
                  <a:ext cx="1147680" cy="582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3" name=""/>
                <p:cNvSpPr/>
                <p:nvPr/>
              </p:nvSpPr>
              <p:spPr>
                <a:xfrm rot="4324800">
                  <a:off x="8190000" y="5286240"/>
                  <a:ext cx="467640" cy="11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84" name="Freeform 28"/>
              <p:cNvGrpSpPr/>
              <p:nvPr/>
            </p:nvGrpSpPr>
            <p:grpSpPr>
              <a:xfrm>
                <a:off x="6858000" y="3920760"/>
                <a:ext cx="1524240" cy="1661760"/>
                <a:chOff x="6858000" y="3920760"/>
                <a:chExt cx="1524240" cy="1661760"/>
              </a:xfrm>
            </p:grpSpPr>
            <p:pic>
              <p:nvPicPr>
                <p:cNvPr id="185" name="Freeform 28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7099920" y="4129920"/>
                  <a:ext cx="1031040" cy="12924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6" name=""/>
                <p:cNvSpPr/>
                <p:nvPr/>
              </p:nvSpPr>
              <p:spPr>
                <a:xfrm rot="19659000">
                  <a:off x="7153560" y="4063320"/>
                  <a:ext cx="932400" cy="137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87" name="Freeform 32"/>
              <p:cNvGrpSpPr/>
              <p:nvPr/>
            </p:nvGrpSpPr>
            <p:grpSpPr>
              <a:xfrm>
                <a:off x="7602480" y="393480"/>
                <a:ext cx="867960" cy="1268280"/>
                <a:chOff x="7602480" y="393480"/>
                <a:chExt cx="867960" cy="1268280"/>
              </a:xfrm>
            </p:grpSpPr>
            <p:pic>
              <p:nvPicPr>
                <p:cNvPr id="188" name="Freeform 32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7654680" y="458280"/>
                  <a:ext cx="729720" cy="1140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9" name=""/>
                <p:cNvSpPr/>
                <p:nvPr/>
              </p:nvSpPr>
              <p:spPr>
                <a:xfrm rot="1177800">
                  <a:off x="7783560" y="444240"/>
                  <a:ext cx="505800" cy="116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0" name="Freeform 12"/>
              <p:cNvGrpSpPr/>
              <p:nvPr/>
            </p:nvGrpSpPr>
            <p:grpSpPr>
              <a:xfrm>
                <a:off x="7871400" y="3298680"/>
                <a:ext cx="1309320" cy="1303200"/>
                <a:chOff x="7871400" y="3298680"/>
                <a:chExt cx="1309320" cy="1303200"/>
              </a:xfrm>
            </p:grpSpPr>
            <p:pic>
              <p:nvPicPr>
                <p:cNvPr id="191" name="Freeform 12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8065080" y="3389760"/>
                  <a:ext cx="944640" cy="1111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2" name=""/>
                <p:cNvSpPr/>
                <p:nvPr/>
              </p:nvSpPr>
              <p:spPr>
                <a:xfrm rot="7111200">
                  <a:off x="8048160" y="3464640"/>
                  <a:ext cx="955440" cy="970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3" name="Freeform 15"/>
              <p:cNvGrpSpPr/>
              <p:nvPr/>
            </p:nvGrpSpPr>
            <p:grpSpPr>
              <a:xfrm>
                <a:off x="12960" y="6028560"/>
                <a:ext cx="560880" cy="829440"/>
                <a:chOff x="12960" y="6028560"/>
                <a:chExt cx="560880" cy="829440"/>
              </a:xfrm>
            </p:grpSpPr>
            <p:pic>
              <p:nvPicPr>
                <p:cNvPr id="194" name="Freeform 15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12960" y="6028560"/>
                  <a:ext cx="560880" cy="829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5" name=""/>
                <p:cNvSpPr/>
                <p:nvPr/>
              </p:nvSpPr>
              <p:spPr>
                <a:xfrm>
                  <a:off x="56520" y="6073200"/>
                  <a:ext cx="477720" cy="74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6" name="Freeform 27"/>
              <p:cNvGrpSpPr/>
              <p:nvPr/>
            </p:nvGrpSpPr>
            <p:grpSpPr>
              <a:xfrm>
                <a:off x="-4680" y="3330000"/>
                <a:ext cx="964800" cy="1153800"/>
                <a:chOff x="-4680" y="3330000"/>
                <a:chExt cx="964800" cy="1153800"/>
              </a:xfrm>
            </p:grpSpPr>
            <p:pic>
              <p:nvPicPr>
                <p:cNvPr id="197" name="Freeform 27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-4680" y="3330000"/>
                  <a:ext cx="964800" cy="1153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98" name=""/>
                <p:cNvSpPr/>
                <p:nvPr/>
              </p:nvSpPr>
              <p:spPr>
                <a:xfrm>
                  <a:off x="26280" y="3358080"/>
                  <a:ext cx="903240" cy="10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199" name="Freeform 51"/>
              <p:cNvGrpSpPr/>
              <p:nvPr/>
            </p:nvGrpSpPr>
            <p:grpSpPr>
              <a:xfrm>
                <a:off x="-16920" y="1406520"/>
                <a:ext cx="578880" cy="1388160"/>
                <a:chOff x="-16920" y="1406520"/>
                <a:chExt cx="578880" cy="1388160"/>
              </a:xfrm>
            </p:grpSpPr>
            <p:pic>
              <p:nvPicPr>
                <p:cNvPr id="200" name="Freeform 51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-16920" y="1406520"/>
                  <a:ext cx="578880" cy="1388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1" name=""/>
                <p:cNvSpPr/>
                <p:nvPr/>
              </p:nvSpPr>
              <p:spPr>
                <a:xfrm>
                  <a:off x="25920" y="1447920"/>
                  <a:ext cx="494640" cy="130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02" name="Freeform 43"/>
              <p:cNvGrpSpPr/>
              <p:nvPr/>
            </p:nvGrpSpPr>
            <p:grpSpPr>
              <a:xfrm>
                <a:off x="-10800" y="0"/>
                <a:ext cx="1145880" cy="847440"/>
                <a:chOff x="-10800" y="0"/>
                <a:chExt cx="1145880" cy="847440"/>
              </a:xfrm>
            </p:grpSpPr>
            <p:pic>
              <p:nvPicPr>
                <p:cNvPr id="203" name="Freeform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-10800" y="0"/>
                  <a:ext cx="1145880" cy="8474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4" name=""/>
                <p:cNvSpPr/>
                <p:nvPr/>
              </p:nvSpPr>
              <p:spPr>
                <a:xfrm>
                  <a:off x="43200" y="54000"/>
                  <a:ext cx="1038600" cy="73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05" name="Freeform 35"/>
              <p:cNvGrpSpPr/>
              <p:nvPr/>
            </p:nvGrpSpPr>
            <p:grpSpPr>
              <a:xfrm>
                <a:off x="8251920" y="11880"/>
                <a:ext cx="892440" cy="654840"/>
                <a:chOff x="8251920" y="11880"/>
                <a:chExt cx="892440" cy="654840"/>
              </a:xfrm>
            </p:grpSpPr>
            <p:pic>
              <p:nvPicPr>
                <p:cNvPr id="206" name="Freeform 35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8251920" y="11880"/>
                  <a:ext cx="892440" cy="6548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07" name=""/>
                <p:cNvSpPr/>
                <p:nvPr/>
              </p:nvSpPr>
              <p:spPr>
                <a:xfrm>
                  <a:off x="8304840" y="65160"/>
                  <a:ext cx="785160" cy="54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  <p:grpSp>
            <p:nvGrpSpPr>
              <p:cNvPr id="208" name="Freeform 31"/>
              <p:cNvGrpSpPr/>
              <p:nvPr/>
            </p:nvGrpSpPr>
            <p:grpSpPr>
              <a:xfrm>
                <a:off x="6900840" y="6136920"/>
                <a:ext cx="1236240" cy="721080"/>
                <a:chOff x="6900840" y="6136920"/>
                <a:chExt cx="1236240" cy="721080"/>
              </a:xfrm>
            </p:grpSpPr>
            <p:pic>
              <p:nvPicPr>
                <p:cNvPr id="209" name="Freeform 31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6900840" y="6136920"/>
                  <a:ext cx="1236240" cy="721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0" name=""/>
                <p:cNvSpPr/>
                <p:nvPr/>
              </p:nvSpPr>
              <p:spPr>
                <a:xfrm>
                  <a:off x="6942960" y="6176520"/>
                  <a:ext cx="11502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211" name="Oval 37"/>
          <p:cNvGrpSpPr/>
          <p:nvPr/>
        </p:nvGrpSpPr>
        <p:grpSpPr>
          <a:xfrm>
            <a:off x="5456160" y="1414440"/>
            <a:ext cx="1133640" cy="1133640"/>
            <a:chOff x="5456160" y="1414440"/>
            <a:chExt cx="1133640" cy="1133640"/>
          </a:xfrm>
        </p:grpSpPr>
        <p:pic>
          <p:nvPicPr>
            <p:cNvPr id="212" name="Oval 37" descr=""/>
            <p:cNvPicPr/>
            <p:nvPr/>
          </p:nvPicPr>
          <p:blipFill>
            <a:blip r:embed="rId29"/>
            <a:stretch/>
          </p:blipFill>
          <p:spPr>
            <a:xfrm>
              <a:off x="5456160" y="1414440"/>
              <a:ext cx="1133640" cy="11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5638680" y="1595520"/>
              <a:ext cx="768600" cy="7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4" name="Oval 38"/>
          <p:cNvGrpSpPr/>
          <p:nvPr/>
        </p:nvGrpSpPr>
        <p:grpSpPr>
          <a:xfrm>
            <a:off x="5626080" y="1390680"/>
            <a:ext cx="878040" cy="871560"/>
            <a:chOff x="5626080" y="1390680"/>
            <a:chExt cx="878040" cy="871560"/>
          </a:xfrm>
        </p:grpSpPr>
        <p:pic>
          <p:nvPicPr>
            <p:cNvPr id="215" name="Oval 38" descr=""/>
            <p:cNvPicPr/>
            <p:nvPr/>
          </p:nvPicPr>
          <p:blipFill>
            <a:blip r:embed="rId30"/>
            <a:stretch/>
          </p:blipFill>
          <p:spPr>
            <a:xfrm>
              <a:off x="5626080" y="1390680"/>
              <a:ext cx="8780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772240" y="1533600"/>
              <a:ext cx="58716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17" name="Oval 39"/>
          <p:cNvGrpSpPr/>
          <p:nvPr/>
        </p:nvGrpSpPr>
        <p:grpSpPr>
          <a:xfrm>
            <a:off x="5237280" y="1871640"/>
            <a:ext cx="645840" cy="646200"/>
            <a:chOff x="5237280" y="1871640"/>
            <a:chExt cx="645840" cy="646200"/>
          </a:xfrm>
        </p:grpSpPr>
        <p:pic>
          <p:nvPicPr>
            <p:cNvPr id="218" name="Oval 39" descr=""/>
            <p:cNvPicPr/>
            <p:nvPr/>
          </p:nvPicPr>
          <p:blipFill>
            <a:blip r:embed="rId31"/>
            <a:stretch/>
          </p:blipFill>
          <p:spPr>
            <a:xfrm>
              <a:off x="5237280" y="1871640"/>
              <a:ext cx="64584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5345280" y="1982880"/>
              <a:ext cx="4251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0" name="Oval 40"/>
          <p:cNvGrpSpPr/>
          <p:nvPr/>
        </p:nvGrpSpPr>
        <p:grpSpPr>
          <a:xfrm>
            <a:off x="5400720" y="1792440"/>
            <a:ext cx="536400" cy="529920"/>
            <a:chOff x="5400720" y="1792440"/>
            <a:chExt cx="536400" cy="529920"/>
          </a:xfrm>
        </p:grpSpPr>
        <p:pic>
          <p:nvPicPr>
            <p:cNvPr id="221" name="Oval 40" descr=""/>
            <p:cNvPicPr/>
            <p:nvPr/>
          </p:nvPicPr>
          <p:blipFill>
            <a:blip r:embed="rId32"/>
            <a:stretch/>
          </p:blipFill>
          <p:spPr>
            <a:xfrm>
              <a:off x="5400720" y="1792440"/>
              <a:ext cx="53640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495760" y="1882800"/>
              <a:ext cx="34632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3" name="Oval 41"/>
          <p:cNvGrpSpPr/>
          <p:nvPr/>
        </p:nvGrpSpPr>
        <p:grpSpPr>
          <a:xfrm>
            <a:off x="4700520" y="2060640"/>
            <a:ext cx="298440" cy="298440"/>
            <a:chOff x="4700520" y="2060640"/>
            <a:chExt cx="298440" cy="298440"/>
          </a:xfrm>
        </p:grpSpPr>
        <p:pic>
          <p:nvPicPr>
            <p:cNvPr id="224" name="Oval 41" descr=""/>
            <p:cNvPicPr/>
            <p:nvPr/>
          </p:nvPicPr>
          <p:blipFill>
            <a:blip r:embed="rId33"/>
            <a:stretch/>
          </p:blipFill>
          <p:spPr>
            <a:xfrm>
              <a:off x="4700520" y="2060640"/>
              <a:ext cx="298440" cy="2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756320" y="2120760"/>
              <a:ext cx="18072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6" name="Oval 42"/>
          <p:cNvGrpSpPr/>
          <p:nvPr/>
        </p:nvGrpSpPr>
        <p:grpSpPr>
          <a:xfrm>
            <a:off x="6108840" y="969840"/>
            <a:ext cx="304560" cy="304920"/>
            <a:chOff x="6108840" y="969840"/>
            <a:chExt cx="304560" cy="304920"/>
          </a:xfrm>
        </p:grpSpPr>
        <p:pic>
          <p:nvPicPr>
            <p:cNvPr id="227" name="Oval 42" descr=""/>
            <p:cNvPicPr/>
            <p:nvPr/>
          </p:nvPicPr>
          <p:blipFill>
            <a:blip r:embed="rId34"/>
            <a:stretch/>
          </p:blipFill>
          <p:spPr>
            <a:xfrm>
              <a:off x="6108840" y="969840"/>
              <a:ext cx="304560" cy="30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6168960" y="10303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29" name="Oval 43"/>
          <p:cNvGrpSpPr/>
          <p:nvPr/>
        </p:nvGrpSpPr>
        <p:grpSpPr>
          <a:xfrm>
            <a:off x="5035680" y="1871640"/>
            <a:ext cx="242640" cy="243000"/>
            <a:chOff x="5035680" y="1871640"/>
            <a:chExt cx="242640" cy="243000"/>
          </a:xfrm>
        </p:grpSpPr>
        <p:pic>
          <p:nvPicPr>
            <p:cNvPr id="230" name="Oval 43" descr=""/>
            <p:cNvPicPr/>
            <p:nvPr/>
          </p:nvPicPr>
          <p:blipFill>
            <a:blip r:embed="rId35"/>
            <a:stretch/>
          </p:blipFill>
          <p:spPr>
            <a:xfrm>
              <a:off x="5035680" y="1871640"/>
              <a:ext cx="242640" cy="2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5087880" y="19242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grpSp>
        <p:nvGrpSpPr>
          <p:cNvPr id="232" name="Oval 44"/>
          <p:cNvGrpSpPr/>
          <p:nvPr/>
        </p:nvGrpSpPr>
        <p:grpSpPr>
          <a:xfrm>
            <a:off x="6126120" y="1036800"/>
            <a:ext cx="244440" cy="242640"/>
            <a:chOff x="6126120" y="1036800"/>
            <a:chExt cx="244440" cy="242640"/>
          </a:xfrm>
        </p:grpSpPr>
        <p:pic>
          <p:nvPicPr>
            <p:cNvPr id="233" name="Oval 44" descr=""/>
            <p:cNvPicPr/>
            <p:nvPr/>
          </p:nvPicPr>
          <p:blipFill>
            <a:blip r:embed="rId36"/>
            <a:stretch/>
          </p:blipFill>
          <p:spPr>
            <a:xfrm>
              <a:off x="6126120" y="1036800"/>
              <a:ext cx="244440" cy="24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6176880" y="1089000"/>
              <a:ext cx="139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9000"/>
                </a:solidFill>
                <a:latin typeface="Verdana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9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A2E1F-44E1-4F2B-848E-74E28E194644}" type="slidenum">
              <a:rPr b="0" lang="en-US" sz="1800" spc="-1" strike="noStrike">
                <a:solidFill>
                  <a:srgbClr val="ff9000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7"/>
    <p:sldLayoutId id="2147483663" r:id="rId38"/>
    <p:sldLayoutId id="2147483664" r:id="rId39"/>
    <p:sldLayoutId id="2147483665" r:id="rId40"/>
    <p:sldLayoutId id="2147483666" r:id="rId41"/>
    <p:sldLayoutId id="2147483667" r:id="rId42"/>
    <p:sldLayoutId id="2147483668" r:id="rId43"/>
    <p:sldLayoutId id="2147483669" r:id="rId44"/>
    <p:sldLayoutId id="2147483670" r:id="rId45"/>
    <p:sldLayoutId id="2147483671" r:id="rId46"/>
    <p:sldLayoutId id="2147483672" r:id="rId47"/>
    <p:sldLayoutId id="2147483673" r:id="rId4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09800" y="3306600"/>
            <a:ext cx="711648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voir et êtr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1009800" y="4776840"/>
            <a:ext cx="711648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9000"/>
                </a:solidFill>
                <a:latin typeface="Verdana"/>
              </a:rPr>
              <a:t>On va les conquerir!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juguez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4876920" y="1981080"/>
          <a:ext cx="4114800" cy="2595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AVOI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 hav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f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’a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f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 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9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l/Elle/On/Qu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f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l/Elle/On/Qui 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f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us avon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9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f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us avez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f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ls/El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9e7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228600" y="1981080"/>
          <a:ext cx="4495680" cy="2595600"/>
        </p:xfrm>
        <a:graphic>
          <a:graphicData uri="http://schemas.openxmlformats.org/drawingml/2006/table">
            <a:tbl>
              <a:tblPr/>
              <a:tblGrid>
                <a:gridCol w="2247840"/>
                <a:gridCol w="224784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ÊTR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to b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4600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f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 sui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f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u 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9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l/Elle/On/Qu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f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l/Elle/On/Qui es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f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us somm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9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u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f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ous ê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8cf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ls/Ell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9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o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9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uand est-ce que j’utilise êtr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en you’re describing a state of being, use êtr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Je suis fatiguée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Nous sommes canadien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When you’re describing a person, use êtr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Ils sont grand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pressions avec êt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Tu es d’accord avec moi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Être d’accord avec = to agree with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Vous êtes en train de faires vos devoir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Être en train de + INFINITIF = to be bus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Gill est à l’heure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Être à l’heure = to be on tim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me. Biega est en avance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Être en avance = to be early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Dawson est en retard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Être en retard = to be late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75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75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75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5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75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750" fill="hold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5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75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750" fill="hold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75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75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750" fill="hold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75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5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75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750" fill="hold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750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75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750" fill="hold"/>
                                        <p:tgtEl>
                                          <p:spTgt spid="2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750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750" fill="hold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750" fill="hold"/>
                                        <p:tgtEl>
                                          <p:spTgt spid="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750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750" fill="hold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750" fill="hold"/>
                                        <p:tgtEl>
                                          <p:spTgt spid="2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750"/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750" fill="hold"/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750" fill="hold"/>
                                        <p:tgtEl>
                                          <p:spTgt spid="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pressions avec avoi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1009800" y="1806120"/>
            <a:ext cx="7124400" cy="444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9000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1700" spc="-1" strike="noStrike">
                <a:solidFill>
                  <a:srgbClr val="ffffff"/>
                </a:solidFill>
                <a:latin typeface="Verdana"/>
              </a:rPr>
              <a:t>Il a quatorze ans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A" sz="1500" spc="-1" strike="noStrike">
                <a:solidFill>
                  <a:srgbClr val="ffffff"/>
                </a:solidFill>
                <a:latin typeface="Verdana"/>
              </a:rPr>
              <a:t>Avoir # ans = to be # years old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9000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1700" spc="-1" strike="noStrike">
                <a:solidFill>
                  <a:srgbClr val="ffffff"/>
                </a:solidFill>
                <a:latin typeface="Verdana"/>
              </a:rPr>
              <a:t>La température est trente degrés. Vous avez chaud?/ C’est l’hiver. Nous avons froid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A" sz="1500" spc="-1" strike="noStrike">
                <a:solidFill>
                  <a:srgbClr val="ffffff"/>
                </a:solidFill>
                <a:latin typeface="Verdana"/>
              </a:rPr>
              <a:t>Avoir chaud/froid = to be hot/cold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9000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1700" spc="-1" strike="noStrike">
                <a:solidFill>
                  <a:srgbClr val="ffffff"/>
                </a:solidFill>
                <a:latin typeface="Verdana"/>
              </a:rPr>
              <a:t>À 11h 30, j’ai faim./Mme., puis-j’aller boire de l’eau? J’ai soif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A" sz="1500" spc="-1" strike="noStrike">
                <a:solidFill>
                  <a:srgbClr val="ffffff"/>
                </a:solidFill>
                <a:latin typeface="Verdana"/>
              </a:rPr>
              <a:t>Avoir faim/soif = to be hungry/thirsty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9000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1700" spc="-1" strike="noStrike">
                <a:solidFill>
                  <a:srgbClr val="ffffff"/>
                </a:solidFill>
                <a:latin typeface="Verdana"/>
              </a:rPr>
              <a:t>J’ai peur des films d’horreur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A" sz="1500" spc="-1" strike="noStrike">
                <a:solidFill>
                  <a:srgbClr val="ffffff"/>
                </a:solidFill>
                <a:latin typeface="Verdana"/>
              </a:rPr>
              <a:t>Avoir peur = to be scared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9000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1700" spc="-1" strike="noStrike">
                <a:solidFill>
                  <a:srgbClr val="ffffff"/>
                </a:solidFill>
                <a:latin typeface="Verdana"/>
              </a:rPr>
              <a:t>Elle a raison./Il a tort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A" sz="1500" spc="-1" strike="noStrike">
                <a:solidFill>
                  <a:srgbClr val="ffffff"/>
                </a:solidFill>
                <a:latin typeface="Verdana"/>
              </a:rPr>
              <a:t>Avoir raison/tort = to be right/wrong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01"/>
              </a:spcAft>
              <a:buClr>
                <a:srgbClr val="ff9000"/>
              </a:buClr>
              <a:buFont typeface="Verdana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1700" spc="-1" strike="noStrike">
                <a:solidFill>
                  <a:srgbClr val="ffffff"/>
                </a:solidFill>
                <a:latin typeface="Verdana"/>
              </a:rPr>
              <a:t>Nous avons sommeil les lundis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fr-CA" sz="1500" spc="-1" strike="noStrike">
                <a:solidFill>
                  <a:srgbClr val="ffffff"/>
                </a:solidFill>
                <a:latin typeface="Verdana"/>
              </a:rPr>
              <a:t>Avoir sommeil = to be sleepy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u négatif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**N’oubliez pas**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On fait un sandwich avec NE et PAS autour de la CONJUGAISON!!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xemple: Elles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sont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intelligentes.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u négatif: Elles NE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sont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PAS intelligentes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Exemple: L’aéroport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un bon restaurant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ff9000"/>
              </a:buClr>
              <a:buFont typeface="Wingdings 2" charset="2"/>
              <a:buChar char="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Au négatif: L’aéroport N’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Verdana"/>
              </a:rPr>
              <a:t>a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PAS un bon restaurant.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2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0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500"/>
                                        <p:tgtEl>
                                          <p:spTgt spid="2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5" dur="500"/>
                                        <p:tgtEl>
                                          <p:spTgt spid="2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2:26:03Z</dcterms:created>
  <dc:creator>Biega, Sarah</dc:creator>
  <dc:description/>
  <dc:language>en-US</dc:language>
  <cp:lastModifiedBy>Biega, Sarah</cp:lastModifiedBy>
  <dcterms:modified xsi:type="dcterms:W3CDTF">2012-09-18T20:01:04Z</dcterms:modified>
  <cp:revision>4</cp:revision>
  <dc:subject/>
  <dc:title>Avoir et être</dc:title>
</cp:coreProperties>
</file>